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1561D-CFD1-40C2-A329-9C1E8757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5E23B-987D-4732-9829-1D8337BB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204FF-7A94-4BB9-A94D-A4AAE5B8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0B9FD-F329-441C-BBCA-1F1A03A5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9985-D0AE-4C3C-AD41-C8493B0F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7CB6-4A27-466F-B895-D4EFBD25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F501-D4E6-4599-874E-04ABAC2D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E350-F125-457B-ACB1-BF334C37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D2BA-FF41-41C2-A02E-B788F5E4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6B1C-071C-41BE-A9C4-6AE45EF3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ACCC-AF77-498B-9F9D-E6385209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BD736-5C78-40FA-AD53-226732CE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14E6-526E-4893-B6ED-D837A5C1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9DCB-6BBA-4C48-A0FD-DA077489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F743-2E09-40EF-BDB6-FDF145F7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975A-0B9E-48C4-A555-8E3F7F07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E90A-DB1E-4257-B579-2A5C5459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8B89A-5E75-4C10-A699-2F1BE469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AA7B-3A04-4632-868C-11F29501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0861-D882-47CF-8C8B-B790DF62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C0A4-62A4-4299-8E9B-F9C97F96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C677-7B6D-42F6-9D2B-7B8DF3C2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02433-A3AC-4419-BF18-92D9497B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D1E5-9C57-494D-AEF0-1609C48E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160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9584b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4524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c5b4e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C811-EE91-437B-9881-CA64287C42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160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9584b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4524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c5b4e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2F66-7DC3-4132-865F-7ECA6B67D8C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39607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1640" y="160020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ececb2"/>
                </a:solidFill>
                <a:latin typeface="Tahoma"/>
              </a:rPr>
              <a:t>Christian Dior</a:t>
            </a:r>
            <a:r>
              <a:rPr b="0" lang="ru-RU" sz="4800" spc="-1" strike="noStrike">
                <a:solidFill>
                  <a:srgbClr val="ececb2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1640" y="3933360"/>
            <a:ext cx="3848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1905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-195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4762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e New Look de Dior a connu un grand succès dans le monde, malgré de nombreux détracteurs, qui reprochaient au couturier de cacher les jambes des femmes. En cette époque d'après-guerre on lui reprochait aussi l'utilisation de trop grandes quantités de tiss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9"/>
          <p:cNvPicPr/>
          <p:nvPr/>
        </p:nvPicPr>
        <p:blipFill>
          <a:blip r:embed="rId1"/>
          <a:stretch/>
        </p:blipFill>
        <p:spPr>
          <a:xfrm>
            <a:off x="4781520" y="549360"/>
            <a:ext cx="42163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6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51280" y="836280"/>
            <a:ext cx="5122800" cy="408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Merci pour votre attention!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53" name="Picture 4" descr="13"/>
          <p:cNvPicPr/>
          <p:nvPr/>
        </p:nvPicPr>
        <p:blipFill>
          <a:blip r:embed="rId1"/>
          <a:stretch/>
        </p:blipFill>
        <p:spPr>
          <a:xfrm>
            <a:off x="468360" y="260280"/>
            <a:ext cx="3483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est un grand couturier français. Il est le fondateur de la Maison de couture qui porte son nom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2"/>
          <p:cNvPicPr/>
          <p:nvPr/>
        </p:nvPicPr>
        <p:blipFill>
          <a:blip r:embed="rId1"/>
          <a:stretch/>
        </p:blipFill>
        <p:spPr>
          <a:xfrm>
            <a:off x="4381560" y="476280"/>
            <a:ext cx="476244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859280" y="620640"/>
            <a:ext cx="428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 1928, Christian a créé une galerie d'art où les œuvres ont été exposées par Derain, Matisse, Picasso. Mais après la mort de ses parents il était obligé de fermer sa galérie qui a été financié par son père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1"/>
          <p:cNvPicPr/>
          <p:nvPr/>
        </p:nvPicPr>
        <p:blipFill>
          <a:blip r:embed="rId1"/>
          <a:stretch/>
        </p:blipFill>
        <p:spPr>
          <a:xfrm>
            <a:off x="179280" y="1628640"/>
            <a:ext cx="48024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788000" y="2610000"/>
            <a:ext cx="435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'était à ce moment qu'il a commencé à vendre ses esquisses 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chapeaux et des robes, imprimées dans le magazine Le Figaro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8" descr="12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478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 1938, il a été repéré par un célèbre couturier Robert Piguet, mais la guerre 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en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é.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Dior a été mobilisé. Mais bi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ôt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il est revenu à Paris et a commencé  à travailler pour la célèbre Maison de couture de Lelong Lucien.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4"/>
          <p:cNvPicPr/>
          <p:nvPr/>
        </p:nvPicPr>
        <p:blipFill>
          <a:blip r:embed="rId1"/>
          <a:stretch/>
        </p:blipFill>
        <p:spPr>
          <a:xfrm>
            <a:off x="4699080" y="260280"/>
            <a:ext cx="44449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330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 1942, Christian a créé un laboratoire de parfum. Pour lui, « le parfum est le complément indispensable de la personnalité féminine, c’est la touche finale d'une robe. »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16"/>
          <p:cNvPicPr/>
          <p:nvPr/>
        </p:nvPicPr>
        <p:blipFill>
          <a:blip r:embed="rId1"/>
          <a:stretch/>
        </p:blipFill>
        <p:spPr>
          <a:xfrm>
            <a:off x="4932360" y="189000"/>
            <a:ext cx="3389400" cy="1871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7"/>
          <p:cNvPicPr/>
          <p:nvPr/>
        </p:nvPicPr>
        <p:blipFill>
          <a:blip r:embed="rId2"/>
          <a:stretch/>
        </p:blipFill>
        <p:spPr>
          <a:xfrm>
            <a:off x="6108840" y="2205000"/>
            <a:ext cx="3035160" cy="3240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18"/>
          <p:cNvPicPr/>
          <p:nvPr/>
        </p:nvPicPr>
        <p:blipFill>
          <a:blip r:embed="rId3"/>
          <a:stretch/>
        </p:blipFill>
        <p:spPr>
          <a:xfrm>
            <a:off x="4356000" y="494172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3178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Après la guerre, en 1946, il a fondu sa propre maison de mode.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4067280" y="2205000"/>
            <a:ext cx="4809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71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Dans sa première collection de 1947, Dior a créé un concept entièrement nouveau de New Look. Il s'agissait d'une "ligne romantique": taille cintrée, poitrine haute et ronde, épaules étroites, jambes découvertes jusqu’à 30 cm au-dessus du so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8"/>
          <p:cNvPicPr/>
          <p:nvPr/>
        </p:nvPicPr>
        <p:blipFill>
          <a:blip r:embed="rId1"/>
          <a:stretch/>
        </p:blipFill>
        <p:spPr>
          <a:xfrm>
            <a:off x="5003640" y="476280"/>
            <a:ext cx="36324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50515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ar cette silhouette, il a apporté sa propre idée de la féminité, qui fait tellement défaut à l'époque de la guerre, avec ses uniformes et le «service du travail" pour les femm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11"/>
          <p:cNvPicPr/>
          <p:nvPr/>
        </p:nvPicPr>
        <p:blipFill>
          <a:blip r:embed="rId1"/>
          <a:stretch/>
        </p:blipFill>
        <p:spPr>
          <a:xfrm>
            <a:off x="4932360" y="1773360"/>
            <a:ext cx="42116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06:10:34Z</dcterms:created>
  <dc:creator>User_09</dc:creator>
  <dc:description/>
  <dc:language>en-US</dc:language>
  <cp:lastModifiedBy>Василий</cp:lastModifiedBy>
  <dcterms:modified xsi:type="dcterms:W3CDTF">2012-06-06T16:10:15Z</dcterms:modified>
  <cp:revision>3</cp:revision>
  <dc:subject/>
  <dc:title>Christian Dior </dc:title>
</cp:coreProperties>
</file>